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62D-74B6-43AA-8DF9-C17EF34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8F1-0B4E-43D7-886C-658CF70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4BC-6C30-4AF0-BF65-D05776AE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D38-2AA1-44A2-A1AF-6F04C14A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7C4-B3E3-4EF1-BA03-675CD09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C1E-F69A-4333-B2C5-ED0887CE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6A2-FAEB-430F-B5BB-37474DD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B0B-A9F9-4509-93E7-E4BD5AA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B62-0AAE-4FF4-B608-6471681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163-01BC-4E8E-8DC7-E3BB8AC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995-06AF-488D-BF3F-6FF4C05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41-E7F3-42BF-A73D-E6CC6C06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0F7-EEC8-489A-AA25-A20684B8C9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8:42:35Z</dcterms:created>
  <dc:creator>Grupo Editorial</dc:creator>
  <dc:description/>
  <dc:language>en-US</dc:language>
  <cp:lastModifiedBy>TORRES</cp:lastModifiedBy>
  <dcterms:modified xsi:type="dcterms:W3CDTF">2010-12-18T22:09:57Z</dcterms:modified>
  <cp:revision>1</cp:revision>
  <dc:subject/>
  <dc:title>Sin título de diapositiva</dc:title>
</cp:coreProperties>
</file>